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2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1.png" ContentType="image/png"/>
  <Override PartName="/ppt/media/image20.png" ContentType="image/png"/>
  <Override PartName="/ppt/media/image2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32.png" ContentType="image/png"/>
  <Override PartName="/ppt/media/image22.jpeg" ContentType="image/jpeg"/>
  <Override PartName="/ppt/media/image9.png" ContentType="image/png"/>
  <Override PartName="/ppt/media/image13.png" ContentType="image/png"/>
  <Override PartName="/ppt/media/image29.jpeg" ContentType="image/jpeg"/>
  <Override PartName="/ppt/media/image28.png" ContentType="image/png"/>
  <Override PartName="/ppt/media/image8.jpeg" ContentType="image/jpeg"/>
  <Override PartName="/ppt/media/image11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5.jpeg" ContentType="image/jpeg"/>
  <Override PartName="/ppt/media/image26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2.png" ContentType="image/png"/>
  <Override PartName="/ppt/media/image23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DD0801-2D4C-48C3-8C30-445A98497A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0FD8F3-52D1-4B3C-AAE5-49471D9358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C2EB96-8E4D-4CE3-8957-22E355C53F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95025D-CD8B-45EA-83D5-429A878BFE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4D9BE1-8A2B-45D8-B417-ED22478AA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1B91BB-BA60-453D-AB4E-663DABD67E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6623D9-6152-40D3-9A5E-A95F25E3FB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327345-9C05-41BC-931C-1D551B452D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D50AD4-5B34-4EEC-9E1F-AA6BF12563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4ED042-8545-4D7A-98B5-10FC34E612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CFBE2B-1758-452C-A435-6296490111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B96472-CB81-43FF-9784-EB88AF1A67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61112B-7564-4659-889A-4D4187D3F0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D4CBAC-0FC9-4E7E-928C-6EA79016FD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051548-F961-41AA-953C-8697401DB5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8C06BD-3093-418F-A85F-5B5B9D5F28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225002-24C0-449D-ACF0-5A52D3E8C3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C8CD1D-F92C-4E5A-BE10-F614016B57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2356C3-3E70-4A54-94A5-62E30C30F2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FED78D-26A7-4908-B969-5EBC676154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09A82F-A743-4A41-8A7E-53FE454585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BA13-876B-4761-BA75-BBE2BEE83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A2EF-887A-4AB3-9139-A8F94147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8A3C-C539-4432-B099-41EEA4452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125F-8C18-479C-A587-2F0AD0E67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4FF0-EC5D-4EB7-8A9C-E4DC01E58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EB77-AE1E-4C43-B8FD-1C803124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1AD9-CF9A-494D-904D-22266321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52EC-2A71-43B1-B519-E463EDEB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4AE9-6E0F-4EEF-A16D-FF050462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535D-1805-433A-B539-70711DCA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215A-63DB-4F68-9834-04E3C1BA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7C99-4E8F-4043-BB79-C2FD6F1A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1F17-FD8C-4D0D-9ADE-9870F9B1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37C7-0626-4071-99F5-F62AB0D3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2ECB-1B10-460E-87EA-71D58FFC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C071-17B1-4423-9EF7-C2ADB2E1A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3A67-E27C-4E59-A412-767BA2087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4F55-1F47-4FAB-952D-BF2EF4EF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8B65-B8A1-450B-A195-24BD09CF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CD23B-2D71-4705-A12A-0DB46A03F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3D07-E23C-4594-ABE8-B95DF173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2ED5A-76DD-4C83-9238-47E7E63C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48722-0153-4448-B7C9-AEF5891F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031C8-E22E-48DD-97BC-5B5668A3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43C6F-86AC-475C-AC70-CE8EC65C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554BA-190F-4563-8EEE-1D1CE7DF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8C08A-3CB7-49A7-9B47-80735FF6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4CE5C-EFB5-48EC-8A75-8F273986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AA7C9-37D0-464E-899A-9E0AAECB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564F1-EB07-48D0-85DA-D414DE26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55497-5BC7-41B5-BA02-9DA14885D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C408-9C4B-4B34-8173-DD5E4876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689FB-23E8-4545-A468-4D2A5A9F8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7048-1680-423E-8F14-D298B04A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91D4-907E-4E7C-942C-E05E90DB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E269-DD0D-42C4-BF99-B2616133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eeece1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550"/>
              </a:spcBef>
              <a:buClr>
                <a:srgbClr val="558ed5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035000" indent="-349200">
              <a:spcBef>
                <a:spcPts val="550"/>
              </a:spcBef>
              <a:buClr>
                <a:srgbClr val="eeece1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336600">
              <a:spcBef>
                <a:spcPts val="550"/>
              </a:spcBef>
              <a:buClr>
                <a:srgbClr val="558ed5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1720800" indent="-349200">
              <a:spcBef>
                <a:spcPts val="550"/>
              </a:spcBef>
              <a:buClr>
                <a:srgbClr val="eeece1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1720800" indent="-349200">
              <a:spcBef>
                <a:spcPts val="550"/>
              </a:spcBef>
              <a:buClr>
                <a:srgbClr val="000000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1720800" indent="-349200">
              <a:spcBef>
                <a:spcPts val="550"/>
              </a:spcBef>
              <a:buClr>
                <a:srgbClr val="000000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7552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1f497d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B035A0-9C4B-4EAA-B296-978818701F51}" type="datetime">
              <a:rPr b="0" lang="en-US" sz="1100" spc="-1" strike="noStrike">
                <a:solidFill>
                  <a:srgbClr val="1f497d"/>
                </a:solidFill>
                <a:latin typeface="Century Gothic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4640" y="6275520"/>
            <a:ext cx="564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1f497d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95091C-9E83-4686-9BBE-925652837ED1}" type="slidenum">
              <a:rPr b="0" lang="en-US" sz="1400" spc="-1" strike="noStrike">
                <a:solidFill>
                  <a:srgbClr val="1f497d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eeece1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550"/>
              </a:spcBef>
              <a:buClr>
                <a:srgbClr val="558ed5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035000" indent="-349200">
              <a:spcBef>
                <a:spcPts val="550"/>
              </a:spcBef>
              <a:buClr>
                <a:srgbClr val="eeece1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336600">
              <a:spcBef>
                <a:spcPts val="550"/>
              </a:spcBef>
              <a:buClr>
                <a:srgbClr val="558ed5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1720800" indent="-349200">
              <a:spcBef>
                <a:spcPts val="550"/>
              </a:spcBef>
              <a:buClr>
                <a:srgbClr val="eeece1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1720800" indent="-349200">
              <a:spcBef>
                <a:spcPts val="550"/>
              </a:spcBef>
              <a:buClr>
                <a:srgbClr val="000000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1720800" indent="-349200">
              <a:spcBef>
                <a:spcPts val="550"/>
              </a:spcBef>
              <a:buClr>
                <a:srgbClr val="000000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7552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1f497d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98FFEB-0566-4C63-AD0E-DFC2A7E8B485}" type="datetime">
              <a:rPr b="0" lang="en-US" sz="1100" spc="-1" strike="noStrike">
                <a:solidFill>
                  <a:srgbClr val="1f497d"/>
                </a:solidFill>
                <a:latin typeface="Century Gothic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09680" y="6275520"/>
            <a:ext cx="563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07696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1f497d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C98668-F51D-4B94-A5B8-5E1CAA6E7B93}" type="slidenum">
              <a:rPr b="0" lang="en-US" sz="1400" spc="-1" strike="noStrike">
                <a:solidFill>
                  <a:srgbClr val="1f497d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eeece1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550"/>
              </a:spcBef>
              <a:buClr>
                <a:srgbClr val="558ed5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035000" indent="-349200">
              <a:spcBef>
                <a:spcPts val="550"/>
              </a:spcBef>
              <a:buClr>
                <a:srgbClr val="eeece1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336600">
              <a:spcBef>
                <a:spcPts val="550"/>
              </a:spcBef>
              <a:buClr>
                <a:srgbClr val="558ed5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1720800" indent="-349200">
              <a:spcBef>
                <a:spcPts val="550"/>
              </a:spcBef>
              <a:buClr>
                <a:srgbClr val="eeece1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1720800" indent="-349200">
              <a:spcBef>
                <a:spcPts val="550"/>
              </a:spcBef>
              <a:buClr>
                <a:srgbClr val="000000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1720800" indent="-349200">
              <a:spcBef>
                <a:spcPts val="550"/>
              </a:spcBef>
              <a:buClr>
                <a:srgbClr val="000000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eeece1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550"/>
              </a:spcBef>
              <a:buClr>
                <a:srgbClr val="558ed5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035000" indent="-349200">
              <a:spcBef>
                <a:spcPts val="550"/>
              </a:spcBef>
              <a:buClr>
                <a:srgbClr val="eeece1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336600">
              <a:spcBef>
                <a:spcPts val="550"/>
              </a:spcBef>
              <a:buClr>
                <a:srgbClr val="558ed5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1720800" indent="-349200">
              <a:spcBef>
                <a:spcPts val="550"/>
              </a:spcBef>
              <a:buClr>
                <a:srgbClr val="eeece1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1720800" indent="-349200">
              <a:spcBef>
                <a:spcPts val="550"/>
              </a:spcBef>
              <a:buClr>
                <a:srgbClr val="000000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1720800" indent="-349200">
              <a:spcBef>
                <a:spcPts val="550"/>
              </a:spcBef>
              <a:buClr>
                <a:srgbClr val="000000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 flipH="1">
            <a:off x="4572720" y="1693800"/>
            <a:ext cx="19080" cy="4389480"/>
          </a:xfrm>
          <a:prstGeom prst="rect">
            <a:avLst/>
          </a:prstGeom>
          <a:gradFill rotWithShape="0">
            <a:gsLst>
              <a:gs pos="0">
                <a:srgbClr val="17375e"/>
              </a:gs>
              <a:gs pos="100000">
                <a:srgbClr val="1f49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 flipH="1">
            <a:off x="4572720" y="1693800"/>
            <a:ext cx="19080" cy="4389480"/>
          </a:xfrm>
          <a:prstGeom prst="rect">
            <a:avLst/>
          </a:prstGeom>
          <a:gradFill rotWithShape="0">
            <a:gsLst>
              <a:gs pos="0">
                <a:srgbClr val="17375e"/>
              </a:gs>
              <a:gs pos="100000">
                <a:srgbClr val="1f49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 flipH="1">
            <a:off x="4572720" y="1693800"/>
            <a:ext cx="19080" cy="4389480"/>
          </a:xfrm>
          <a:prstGeom prst="rect">
            <a:avLst/>
          </a:prstGeom>
          <a:gradFill rotWithShape="0">
            <a:gsLst>
              <a:gs pos="0">
                <a:srgbClr val="17375e"/>
              </a:gs>
              <a:gs pos="100000">
                <a:srgbClr val="1f49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 flipH="1">
            <a:off x="4572720" y="1693800"/>
            <a:ext cx="19080" cy="4389480"/>
          </a:xfrm>
          <a:prstGeom prst="rect">
            <a:avLst/>
          </a:prstGeom>
          <a:gradFill rotWithShape="0">
            <a:gsLst>
              <a:gs pos="0">
                <a:srgbClr val="17375e"/>
              </a:gs>
              <a:gs pos="100000">
                <a:srgbClr val="1f49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eeece1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550"/>
              </a:spcBef>
              <a:buClr>
                <a:srgbClr val="558ed5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035000" indent="-349200">
              <a:spcBef>
                <a:spcPts val="550"/>
              </a:spcBef>
              <a:buClr>
                <a:srgbClr val="eeece1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336600">
              <a:spcBef>
                <a:spcPts val="550"/>
              </a:spcBef>
              <a:buClr>
                <a:srgbClr val="558ed5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1720800" indent="-349200">
              <a:spcBef>
                <a:spcPts val="550"/>
              </a:spcBef>
              <a:buClr>
                <a:srgbClr val="eeece1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1720800" indent="-349200">
              <a:spcBef>
                <a:spcPts val="550"/>
              </a:spcBef>
              <a:buClr>
                <a:srgbClr val="000000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1720800" indent="-349200">
              <a:spcBef>
                <a:spcPts val="550"/>
              </a:spcBef>
              <a:buClr>
                <a:srgbClr val="000000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7552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1f497d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C1417B-9577-4073-84D9-32004F50F102}" type="datetime">
              <a:rPr b="0" lang="en-US" sz="1100" spc="-1" strike="noStrike">
                <a:solidFill>
                  <a:srgbClr val="1f497d"/>
                </a:solidFill>
                <a:latin typeface="Century Gothic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2204640" y="6275520"/>
            <a:ext cx="564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807696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1f497d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8DE342-C5F5-43ED-9B17-6716377E92C9}" type="slidenum">
              <a:rPr b="0" lang="en-US" sz="1400" spc="-1" strike="noStrike">
                <a:solidFill>
                  <a:srgbClr val="1f497d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diana.edu/~oso/animations/An6.html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6000" y="739800"/>
            <a:ext cx="8513640" cy="27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10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1f497d"/>
                </a:solidFill>
                <a:latin typeface="Century Gothic"/>
              </a:rPr>
              <a:t>   </a:t>
            </a:r>
            <a:r>
              <a:rPr b="1" lang="en-US" sz="10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Chapter 2 B</a:t>
            </a:r>
            <a:br>
              <a:rPr sz="10000"/>
            </a:br>
            <a:r>
              <a:rPr b="1" lang="en-US" sz="10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   Organic</a:t>
            </a:r>
            <a:br>
              <a:rPr sz="10000"/>
            </a:br>
            <a:r>
              <a:rPr b="1" lang="en-US" sz="10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  Chemistry</a:t>
            </a:r>
            <a:endParaRPr b="0" lang="en-US" sz="100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6000" y="3504960"/>
            <a:ext cx="4683240" cy="134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Century Gothic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Century Gothic"/>
              </a:rPr>
              <a:t>Dehydration Synthesis</a:t>
            </a: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pic>
        <p:nvPicPr>
          <p:cNvPr id="238" name="Content Placeholder 3" descr="sucrosesyn.gif"/>
          <p:cNvPicPr/>
          <p:nvPr/>
        </p:nvPicPr>
        <p:blipFill>
          <a:blip r:embed="rId2"/>
          <a:srcRect l="-12412" t="0" r="-12412" b="0"/>
          <a:stretch/>
        </p:blipFill>
        <p:spPr>
          <a:xfrm>
            <a:off x="160200" y="1371600"/>
            <a:ext cx="8983800" cy="5116680"/>
          </a:xfrm>
          <a:prstGeom prst="rect">
            <a:avLst/>
          </a:prstGeom>
          <a:ln w="0">
            <a:noFill/>
          </a:ln>
        </p:spPr>
      </p:pic>
      <p:sp>
        <p:nvSpPr>
          <p:cNvPr id="239" name="TextBox 4"/>
          <p:cNvSpPr/>
          <p:nvPr/>
        </p:nvSpPr>
        <p:spPr>
          <a:xfrm>
            <a:off x="2085840" y="6488280"/>
            <a:ext cx="42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taff.jccc.net/pdecell/biochemistr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Century Gothic"/>
              </a:rPr>
              <a:t>Hydrolysis</a:t>
            </a: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How are organic molecules broken down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hydro – water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lys – to break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Hydrolysis is “to break by adding water”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eeece1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Century Gothic"/>
              </a:rPr>
              <a:t>Hydrolysis</a:t>
            </a: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pic>
        <p:nvPicPr>
          <p:cNvPr id="243" name="Content Placeholder 7" descr="hydrolysis.jpg"/>
          <p:cNvPicPr/>
          <p:nvPr/>
        </p:nvPicPr>
        <p:blipFill>
          <a:blip r:embed="rId2"/>
          <a:srcRect l="-31457" t="0" r="-31457" b="0"/>
          <a:stretch/>
        </p:blipFill>
        <p:spPr>
          <a:xfrm>
            <a:off x="387360" y="1371600"/>
            <a:ext cx="8756640" cy="4987800"/>
          </a:xfrm>
          <a:prstGeom prst="rect">
            <a:avLst/>
          </a:prstGeom>
          <a:ln w="0">
            <a:noFill/>
          </a:ln>
        </p:spPr>
      </p:pic>
      <p:sp>
        <p:nvSpPr>
          <p:cNvPr id="244" name="TextBox 8"/>
          <p:cNvSpPr/>
          <p:nvPr/>
        </p:nvSpPr>
        <p:spPr>
          <a:xfrm>
            <a:off x="1041840" y="6359400"/>
            <a:ext cx="74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doyouknow.in/Articles/images/201111230226161476457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2895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380880" y="380880"/>
            <a:ext cx="8991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152280" y="304920"/>
            <a:ext cx="8991720" cy="79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Lipi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(fats, waxes, cholesterol, oil, phospholipi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* made of fatty acids &amp; glyc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* do not dissolve in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* contains most energy/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Century Gothic"/>
              </a:rPr>
              <a:t>Lipids</a:t>
            </a: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eeece1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Glycerol Molecule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eeece1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eeece1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eeece1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Glycerol (circled in red) and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3 Fatty Acid Chains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51" name="Picture 3" descr="glycerol.jpg"/>
          <p:cNvPicPr/>
          <p:nvPr/>
        </p:nvPicPr>
        <p:blipFill>
          <a:blip r:embed="rId2"/>
          <a:stretch/>
        </p:blipFill>
        <p:spPr>
          <a:xfrm>
            <a:off x="4695840" y="2044800"/>
            <a:ext cx="1428840" cy="1123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fat.jpg"/>
          <p:cNvPicPr/>
          <p:nvPr/>
        </p:nvPicPr>
        <p:blipFill>
          <a:blip r:embed="rId3"/>
          <a:stretch/>
        </p:blipFill>
        <p:spPr>
          <a:xfrm>
            <a:off x="5410080" y="3733920"/>
            <a:ext cx="3429000" cy="2865240"/>
          </a:xfrm>
          <a:prstGeom prst="rect">
            <a:avLst/>
          </a:prstGeom>
          <a:ln w="0">
            <a:noFill/>
          </a:ln>
        </p:spPr>
      </p:pic>
      <p:sp>
        <p:nvSpPr>
          <p:cNvPr id="253" name="TextBox 5"/>
          <p:cNvSpPr/>
          <p:nvPr/>
        </p:nvSpPr>
        <p:spPr>
          <a:xfrm>
            <a:off x="3827520" y="3168720"/>
            <a:ext cx="43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biology.clc.uc.edu/graphics/bio104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6"/>
          <p:cNvSpPr/>
          <p:nvPr/>
        </p:nvSpPr>
        <p:spPr>
          <a:xfrm>
            <a:off x="21960" y="6400800"/>
            <a:ext cx="492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biology.clc.uc.edu/graphics/bio104/fat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Rounded Rectangle 7"/>
          <p:cNvGrpSpPr/>
          <p:nvPr/>
        </p:nvGrpSpPr>
        <p:grpSpPr>
          <a:xfrm>
            <a:off x="5284800" y="3670200"/>
            <a:ext cx="1000080" cy="3151440"/>
            <a:chOff x="5284800" y="3670200"/>
            <a:chExt cx="1000080" cy="3151440"/>
          </a:xfrm>
        </p:grpSpPr>
        <p:pic>
          <p:nvPicPr>
            <p:cNvPr id="256" name="Rounded Rectangle 7" descr=""/>
            <p:cNvPicPr/>
            <p:nvPr/>
          </p:nvPicPr>
          <p:blipFill>
            <a:blip r:embed="rId4"/>
            <a:stretch/>
          </p:blipFill>
          <p:spPr>
            <a:xfrm>
              <a:off x="5284800" y="3670200"/>
              <a:ext cx="1000080" cy="315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5446800" y="3770280"/>
              <a:ext cx="689040" cy="279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Century Gothic"/>
              </a:rPr>
              <a:t>Lipids</a:t>
            </a: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pic>
        <p:nvPicPr>
          <p:cNvPr id="259" name="Content Placeholder 3" descr="Bio-p48-Fig2-20.jpg"/>
          <p:cNvPicPr/>
          <p:nvPr/>
        </p:nvPicPr>
        <p:blipFill>
          <a:blip r:embed="rId2"/>
          <a:srcRect l="-59903" t="0" r="-59903" b="0"/>
          <a:stretch/>
        </p:blipFill>
        <p:spPr>
          <a:xfrm>
            <a:off x="2209680" y="1371600"/>
            <a:ext cx="9336240" cy="5318280"/>
          </a:xfrm>
          <a:prstGeom prst="rect">
            <a:avLst/>
          </a:prstGeom>
          <a:ln w="0">
            <a:noFill/>
          </a:ln>
        </p:spPr>
      </p:pic>
      <p:sp>
        <p:nvSpPr>
          <p:cNvPr id="260" name="TextBox 4"/>
          <p:cNvSpPr/>
          <p:nvPr/>
        </p:nvSpPr>
        <p:spPr>
          <a:xfrm>
            <a:off x="587880" y="1828800"/>
            <a:ext cx="336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lycerol molecu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ed to 3 fat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id ch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0" y="2895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380880" y="380880"/>
            <a:ext cx="8991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457200" y="304920"/>
            <a:ext cx="838188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Lipids can 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* saturated with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olid at room t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ex: crisco, butter, ch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* unsatu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has C=C (double bonds)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liquid at room temperature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ex: olive 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Century Gothic"/>
              </a:rPr>
              <a:t>Saturated vs. Unsaturated</a:t>
            </a: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pic>
        <p:nvPicPr>
          <p:cNvPr id="266" name="Content Placeholder 3" descr="fat.jpg"/>
          <p:cNvPicPr/>
          <p:nvPr/>
        </p:nvPicPr>
        <p:blipFill>
          <a:blip r:embed="rId2"/>
          <a:srcRect l="-23350" t="0" r="-23350" b="0"/>
          <a:stretch/>
        </p:blipFill>
        <p:spPr>
          <a:xfrm>
            <a:off x="0" y="1371600"/>
            <a:ext cx="8983800" cy="5116680"/>
          </a:xfrm>
          <a:prstGeom prst="rect">
            <a:avLst/>
          </a:prstGeom>
          <a:ln w="0">
            <a:noFill/>
          </a:ln>
        </p:spPr>
      </p:pic>
      <p:sp>
        <p:nvSpPr>
          <p:cNvPr id="267" name="TextBox 4"/>
          <p:cNvSpPr/>
          <p:nvPr/>
        </p:nvSpPr>
        <p:spPr>
          <a:xfrm>
            <a:off x="2231640" y="6488280"/>
            <a:ext cx="492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biology.clc.uc.edu/graphics/bio104/fat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Oval 5"/>
          <p:cNvGrpSpPr/>
          <p:nvPr/>
        </p:nvGrpSpPr>
        <p:grpSpPr>
          <a:xfrm>
            <a:off x="5278320" y="4889520"/>
            <a:ext cx="1086120" cy="1011240"/>
            <a:chOff x="5278320" y="4889520"/>
            <a:chExt cx="1086120" cy="1011240"/>
          </a:xfrm>
        </p:grpSpPr>
        <p:pic>
          <p:nvPicPr>
            <p:cNvPr id="269" name="Oval 5" descr=""/>
            <p:cNvPicPr/>
            <p:nvPr/>
          </p:nvPicPr>
          <p:blipFill>
            <a:blip r:embed="rId3"/>
            <a:stretch/>
          </p:blipFill>
          <p:spPr>
            <a:xfrm>
              <a:off x="5278320" y="4889520"/>
              <a:ext cx="108612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532480" y="5064120"/>
              <a:ext cx="5936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0" y="2895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380880" y="380880"/>
            <a:ext cx="8991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1600200" y="51814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9" descr="Image77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0" y="2895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380880" y="380880"/>
            <a:ext cx="8991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457200" y="304920"/>
            <a:ext cx="83818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hospholip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hydrophobic ta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hydrophilic 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7" descr="phospholipids"/>
          <p:cNvPicPr/>
          <p:nvPr/>
        </p:nvPicPr>
        <p:blipFill>
          <a:blip r:embed="rId2"/>
          <a:stretch/>
        </p:blipFill>
        <p:spPr>
          <a:xfrm>
            <a:off x="4038480" y="152280"/>
            <a:ext cx="5105520" cy="31878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9" descr="lectur65"/>
          <p:cNvPicPr/>
          <p:nvPr/>
        </p:nvPicPr>
        <p:blipFill>
          <a:blip r:embed="rId3"/>
          <a:stretch/>
        </p:blipFill>
        <p:spPr>
          <a:xfrm>
            <a:off x="0" y="3676680"/>
            <a:ext cx="3219480" cy="31813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1" descr="cells"/>
          <p:cNvPicPr/>
          <p:nvPr/>
        </p:nvPicPr>
        <p:blipFill>
          <a:blip r:embed="rId4"/>
          <a:stretch/>
        </p:blipFill>
        <p:spPr>
          <a:xfrm>
            <a:off x="3505320" y="3581280"/>
            <a:ext cx="607680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Century Gothic"/>
              </a:rPr>
              <a:t>What is Organic Chemistry</a:t>
            </a: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16761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buClr>
                <a:srgbClr val="eeece1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iosynthesis: living things making substanc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eeece1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Molecules made from Carbon, but it usually has Carbon, Hydrogen, and Oxygen. 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eeece1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arbon Dioxide is not an organic molecul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Century Gothic"/>
              </a:rPr>
              <a:t>Phospholipids</a:t>
            </a: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pic>
        <p:nvPicPr>
          <p:cNvPr id="284" name="Content Placeholder 5" descr="Bio-p49-Fig2-22.jpg"/>
          <p:cNvPicPr/>
          <p:nvPr/>
        </p:nvPicPr>
        <p:blipFill>
          <a:blip r:embed="rId2"/>
          <a:srcRect l="-91853" t="0" r="-91853" b="0"/>
          <a:stretch/>
        </p:blipFill>
        <p:spPr>
          <a:xfrm>
            <a:off x="-2286000" y="2103480"/>
            <a:ext cx="8346960" cy="47545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7" descr="Bio-p63-Fig3-9.jpg"/>
          <p:cNvPicPr/>
          <p:nvPr/>
        </p:nvPicPr>
        <p:blipFill>
          <a:blip r:embed="rId3"/>
          <a:stretch/>
        </p:blipFill>
        <p:spPr>
          <a:xfrm>
            <a:off x="3505320" y="3448080"/>
            <a:ext cx="5457600" cy="2114640"/>
          </a:xfrm>
          <a:prstGeom prst="rect">
            <a:avLst/>
          </a:prstGeom>
          <a:ln w="0">
            <a:noFill/>
          </a:ln>
        </p:spPr>
      </p:pic>
      <p:sp>
        <p:nvSpPr>
          <p:cNvPr id="286" name="TextBox 8"/>
          <p:cNvSpPr/>
          <p:nvPr/>
        </p:nvSpPr>
        <p:spPr>
          <a:xfrm>
            <a:off x="3733920" y="2590920"/>
            <a:ext cx="459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 Membrane is com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 Phospholipid bi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0" y="2895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380880" y="380880"/>
            <a:ext cx="8991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457200" y="304920"/>
            <a:ext cx="8381880" cy="76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Protei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entury Gothic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wide var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entury Gothic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ade of amino acid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entury Gothic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entury Gothic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mine                                                  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group                                                  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-N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entury Gothic"/>
              </a:rPr>
              <a:t>3                      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-C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mino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0" descr="AminoAcidLG"/>
          <p:cNvPicPr/>
          <p:nvPr/>
        </p:nvPicPr>
        <p:blipFill>
          <a:blip r:embed="rId2"/>
          <a:stretch/>
        </p:blipFill>
        <p:spPr>
          <a:xfrm>
            <a:off x="2209680" y="259092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Century Gothic"/>
              </a:rPr>
              <a:t>Building a protein</a:t>
            </a: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pic>
        <p:nvPicPr>
          <p:cNvPr id="293" name="Content Placeholder 3" descr="400px-Peptidformationball.svg.png"/>
          <p:cNvPicPr/>
          <p:nvPr/>
        </p:nvPicPr>
        <p:blipFill>
          <a:blip r:embed="rId2"/>
          <a:srcRect l="-21979" t="0" r="-21979" b="0"/>
          <a:stretch/>
        </p:blipFill>
        <p:spPr>
          <a:xfrm>
            <a:off x="-573120" y="1676520"/>
            <a:ext cx="971712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Century Gothic"/>
              </a:rPr>
              <a:t>Amino Acids</a:t>
            </a: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pic>
        <p:nvPicPr>
          <p:cNvPr id="295" name="Content Placeholder 3" descr="aminoacids.gif"/>
          <p:cNvPicPr/>
          <p:nvPr/>
        </p:nvPicPr>
        <p:blipFill>
          <a:blip r:embed="rId2"/>
          <a:srcRect l="-37343" t="0" r="-37343" b="0"/>
          <a:stretch/>
        </p:blipFill>
        <p:spPr>
          <a:xfrm>
            <a:off x="380880" y="1371600"/>
            <a:ext cx="9058320" cy="5159520"/>
          </a:xfrm>
          <a:prstGeom prst="rect">
            <a:avLst/>
          </a:prstGeom>
          <a:ln w="0">
            <a:noFill/>
          </a:ln>
        </p:spPr>
      </p:pic>
      <p:sp>
        <p:nvSpPr>
          <p:cNvPr id="296" name="TextBox 5"/>
          <p:cNvSpPr/>
          <p:nvPr/>
        </p:nvSpPr>
        <p:spPr>
          <a:xfrm>
            <a:off x="527040" y="6488280"/>
            <a:ext cx="795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njms2.umdnj.edu/biochweb/education/bioweb/PreK2010/aminoacids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0" y="2895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380880" y="380880"/>
            <a:ext cx="8991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457200" y="304920"/>
            <a:ext cx="838188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entury Gothic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mino acids linked by peptide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rms polypeptide chai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ritical for proteins to be function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hain fold into 3D protein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quence of amino aci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determines the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Bio-p51-Fig2-25a.jpg"/>
          <p:cNvPicPr/>
          <p:nvPr/>
        </p:nvPicPr>
        <p:blipFill>
          <a:blip r:embed="rId2"/>
          <a:stretch/>
        </p:blipFill>
        <p:spPr>
          <a:xfrm>
            <a:off x="6019920" y="1752480"/>
            <a:ext cx="2349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Century Gothic"/>
              </a:rPr>
              <a:t>Polypeptide Chain</a:t>
            </a: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pic>
        <p:nvPicPr>
          <p:cNvPr id="303" name="Content Placeholder 3" descr="tumblr_m3tiu5FESZ1r9duat.png"/>
          <p:cNvPicPr/>
          <p:nvPr/>
        </p:nvPicPr>
        <p:blipFill>
          <a:blip r:embed="rId2"/>
          <a:srcRect l="-3805" t="0" r="-3805" b="0"/>
          <a:stretch/>
        </p:blipFill>
        <p:spPr>
          <a:xfrm>
            <a:off x="-447840" y="1676520"/>
            <a:ext cx="9591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0" y="2895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380880" y="380880"/>
            <a:ext cx="8991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457200" y="304920"/>
            <a:ext cx="8381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7" descr="hemoglbn"/>
          <p:cNvPicPr/>
          <p:nvPr/>
        </p:nvPicPr>
        <p:blipFill>
          <a:blip r:embed="rId2"/>
          <a:stretch/>
        </p:blipFill>
        <p:spPr>
          <a:xfrm>
            <a:off x="1185840" y="719280"/>
            <a:ext cx="6772320" cy="541944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2438280" y="6248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Hemoglob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Century Gothic"/>
              </a:rPr>
              <a:t>Ribosome </a:t>
            </a: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pic>
        <p:nvPicPr>
          <p:cNvPr id="311" name="Content Placeholder 3" descr="tumblr_m3tiv4YgRX1r9duat.jpg"/>
          <p:cNvPicPr/>
          <p:nvPr/>
        </p:nvPicPr>
        <p:blipFill>
          <a:blip r:embed="rId2"/>
          <a:srcRect l="-37780" t="0" r="-37780" b="0"/>
          <a:stretch/>
        </p:blipFill>
        <p:spPr>
          <a:xfrm>
            <a:off x="0" y="1371600"/>
            <a:ext cx="9283680" cy="5060880"/>
          </a:xfrm>
          <a:prstGeom prst="rect">
            <a:avLst/>
          </a:prstGeom>
          <a:ln w="0">
            <a:noFill/>
          </a:ln>
        </p:spPr>
      </p:pic>
      <p:sp>
        <p:nvSpPr>
          <p:cNvPr id="312" name="TextBox 5"/>
          <p:cNvSpPr/>
          <p:nvPr/>
        </p:nvSpPr>
        <p:spPr>
          <a:xfrm>
            <a:off x="1905120" y="66294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6"/>
          <p:cNvSpPr/>
          <p:nvPr/>
        </p:nvSpPr>
        <p:spPr>
          <a:xfrm>
            <a:off x="1933200" y="6432480"/>
            <a:ext cx="57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media.tumblr.com/tumblr_m3tiv4YgRX1r9duat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0" y="2895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457200" y="380880"/>
            <a:ext cx="8686800" cy="78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Enzymes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= biological cataly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Enzymes are proteins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Enzymes allow reactions (rxn) to occur in living things with out dangerous energy lev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Enzymes usually end in –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myl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atal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Prote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Lipas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ellul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Pepsin (but not always end in –a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0" y="2895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380880" y="106200"/>
            <a:ext cx="899172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Enzymes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1) protei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2) highly specif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3) require ener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4) may require coenzy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5) affected by heat, radiation, pH, chemic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6) often work in ser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7) have active si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6" descr="enzymes"/>
          <p:cNvPicPr/>
          <p:nvPr/>
        </p:nvPicPr>
        <p:blipFill>
          <a:blip r:embed="rId2"/>
          <a:stretch/>
        </p:blipFill>
        <p:spPr>
          <a:xfrm>
            <a:off x="5842080" y="0"/>
            <a:ext cx="3301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0" y="2895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155520" y="0"/>
            <a:ext cx="8686800" cy="82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Verdana"/>
              </a:rPr>
              <a:t>Organ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c compound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ntain Carb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an be made by an </a:t>
            </a:r>
            <a:r>
              <a:rPr b="1" lang="en-US" sz="3600" spc="-1" strike="noStrike">
                <a:solidFill>
                  <a:srgbClr val="ff6600"/>
                </a:solidFill>
                <a:latin typeface="Verdana"/>
              </a:rPr>
              <a:t>organ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arbon has 4 valence e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an bond w/ up to 4 ato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an form single, double, triple b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an form chains &amp; r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Century Gothic"/>
              </a:rPr>
              <a:t>Enzyme Activity</a:t>
            </a: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380880" y="380880"/>
            <a:ext cx="8991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icture 6"/>
          <p:cNvSpPr/>
          <p:nvPr/>
        </p:nvSpPr>
        <p:spPr>
          <a:xfrm>
            <a:off x="4114800" y="1905120"/>
            <a:ext cx="3914640" cy="28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1600200" y="5181480"/>
            <a:ext cx="70102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entury Gothic"/>
                <a:hlinkClick r:id="rId2"/>
              </a:rPr>
              <a:t>Lego Enzyme Animation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7" descr="Bio-p39-Fig2-12.jpg"/>
          <p:cNvPicPr/>
          <p:nvPr/>
        </p:nvPicPr>
        <p:blipFill>
          <a:blip r:embed="rId3"/>
          <a:stretch/>
        </p:blipFill>
        <p:spPr>
          <a:xfrm>
            <a:off x="155520" y="2751120"/>
            <a:ext cx="891216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Century Gothic"/>
              </a:rPr>
              <a:t>Enzyme lowers Activation Energy</a:t>
            </a:r>
            <a:endParaRPr b="0" lang="en-US" sz="3600" spc="-1" strike="noStrike">
              <a:solidFill>
                <a:srgbClr val="4f81bd"/>
              </a:solidFill>
              <a:latin typeface="Century Gothic"/>
            </a:endParaRPr>
          </a:p>
        </p:txBody>
      </p:sp>
      <p:pic>
        <p:nvPicPr>
          <p:cNvPr id="329" name="Content Placeholder 3" descr="EnzymeActivationEnergy2.gif"/>
          <p:cNvPicPr/>
          <p:nvPr/>
        </p:nvPicPr>
        <p:blipFill>
          <a:blip r:embed="rId2"/>
          <a:srcRect l="-14697" t="0" r="-14697" b="0"/>
          <a:stretch/>
        </p:blipFill>
        <p:spPr>
          <a:xfrm>
            <a:off x="0" y="1143000"/>
            <a:ext cx="9231480" cy="5257800"/>
          </a:xfrm>
          <a:prstGeom prst="rect">
            <a:avLst/>
          </a:prstGeom>
          <a:ln w="0">
            <a:noFill/>
          </a:ln>
        </p:spPr>
      </p:pic>
      <p:sp>
        <p:nvSpPr>
          <p:cNvPr id="330" name="TextBox 4"/>
          <p:cNvSpPr/>
          <p:nvPr/>
        </p:nvSpPr>
        <p:spPr>
          <a:xfrm>
            <a:off x="636120" y="6550200"/>
            <a:ext cx="744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njms2.umdnj.edu/biochweb/education/bioweb/PreK2010/EnzymeActivationEnergy2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Century Gothic"/>
              </a:rPr>
              <a:t>Nucleic Acids</a:t>
            </a: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pic>
        <p:nvPicPr>
          <p:cNvPr id="332" name="Content Placeholder 4" descr="UGENWebsitepicturesTopStoriesJan2011Jan7_2010_21410201_ManLooksAtDNA_ArtificialProteinsSustainLife8375147852.jpg"/>
          <p:cNvPicPr/>
          <p:nvPr/>
        </p:nvPicPr>
        <p:blipFill>
          <a:blip r:embed="rId2"/>
          <a:srcRect l="-7585" t="0" r="-7585" b="0"/>
          <a:stretch/>
        </p:blipFill>
        <p:spPr>
          <a:xfrm>
            <a:off x="-352440" y="1371600"/>
            <a:ext cx="9632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0" y="2895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380880" y="380880"/>
            <a:ext cx="8991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457200" y="304920"/>
            <a:ext cx="8381880" cy="58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Nucleic Acids (DNA &amp; RN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entury Gothic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nd in the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D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material of heredity =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structure determ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Watson &amp; Crick, 19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They stole it from Rosalind Strick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blueprint for making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0" y="2895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380880" y="380880"/>
            <a:ext cx="8991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380880" y="380880"/>
            <a:ext cx="83822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DNA = double chain of nucleo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1) sugar = deoxyrib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2)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3) b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7" descr="16883801"/>
          <p:cNvPicPr/>
          <p:nvPr/>
        </p:nvPicPr>
        <p:blipFill>
          <a:blip r:embed="rId2"/>
          <a:stretch/>
        </p:blipFill>
        <p:spPr>
          <a:xfrm>
            <a:off x="609480" y="3152880"/>
            <a:ext cx="3810240" cy="37051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9" descr="DNA-DoubleHelix-ImgLibPDB-1bna_prepi_4"/>
          <p:cNvPicPr/>
          <p:nvPr/>
        </p:nvPicPr>
        <p:blipFill>
          <a:blip r:embed="rId3"/>
          <a:stretch/>
        </p:blipFill>
        <p:spPr>
          <a:xfrm>
            <a:off x="5622840" y="1066680"/>
            <a:ext cx="35211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0" y="2895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380880" y="380880"/>
            <a:ext cx="8991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380880" y="1371600"/>
            <a:ext cx="426744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DNA re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aking 2 new DNA molecules from an old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5" descr="Bio-p53-Fig2-29.jpg"/>
          <p:cNvPicPr/>
          <p:nvPr/>
        </p:nvPicPr>
        <p:blipFill>
          <a:blip r:embed="rId2"/>
          <a:stretch/>
        </p:blipFill>
        <p:spPr>
          <a:xfrm>
            <a:off x="4648320" y="138240"/>
            <a:ext cx="365760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0" y="2895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380880" y="380880"/>
            <a:ext cx="8991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55520" y="380880"/>
            <a:ext cx="3510000" cy="67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uracil instead of thy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ribose instead of deoxyribo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6" descr="Bio-p54-Fig2-30.jpg"/>
          <p:cNvPicPr/>
          <p:nvPr/>
        </p:nvPicPr>
        <p:blipFill>
          <a:blip r:embed="rId2"/>
          <a:stretch/>
        </p:blipFill>
        <p:spPr>
          <a:xfrm>
            <a:off x="3967200" y="304920"/>
            <a:ext cx="5176800" cy="65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Century Gothic"/>
              </a:rPr>
              <a:t>Not too painful, was it?</a:t>
            </a: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pic>
        <p:nvPicPr>
          <p:cNvPr id="354" name="Content Placeholder 3" descr="perfectly-timed-sports-photos-13.jpg"/>
          <p:cNvPicPr/>
          <p:nvPr/>
        </p:nvPicPr>
        <p:blipFill>
          <a:blip r:embed="rId2"/>
          <a:srcRect l="-16271" t="0" r="-16271" b="0"/>
          <a:stretch/>
        </p:blipFill>
        <p:spPr>
          <a:xfrm>
            <a:off x="0" y="1649520"/>
            <a:ext cx="914400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" descr=""/>
          <p:cNvPicPr/>
          <p:nvPr/>
        </p:nvPicPr>
        <p:blipFill>
          <a:blip r:embed="rId2"/>
          <a:stretch/>
        </p:blipFill>
        <p:spPr>
          <a:xfrm>
            <a:off x="988920" y="2044800"/>
            <a:ext cx="7240680" cy="467676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Century Gothic"/>
              </a:rPr>
              <a:t>We have knocked this chapter out</a:t>
            </a: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Century Gothic"/>
              </a:rPr>
              <a:t>Do I have bad breath??</a:t>
            </a: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pic>
        <p:nvPicPr>
          <p:cNvPr id="358" name="Picture 3" descr=""/>
          <p:cNvPicPr/>
          <p:nvPr/>
        </p:nvPicPr>
        <p:blipFill>
          <a:blip r:embed="rId2"/>
          <a:stretch/>
        </p:blipFill>
        <p:spPr>
          <a:xfrm>
            <a:off x="1143000" y="1523880"/>
            <a:ext cx="675972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Century Gothic"/>
              </a:rPr>
              <a:t>Carbon – the building block</a:t>
            </a: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pic>
        <p:nvPicPr>
          <p:cNvPr id="218" name="Content Placeholder 3" descr="Bio-p47-Fig2-17.jpg"/>
          <p:cNvPicPr/>
          <p:nvPr/>
        </p:nvPicPr>
        <p:blipFill>
          <a:blip r:embed="rId2"/>
          <a:srcRect l="-104911" t="0" r="-104911" b="0"/>
          <a:stretch/>
        </p:blipFill>
        <p:spPr>
          <a:xfrm>
            <a:off x="612720" y="1371600"/>
            <a:ext cx="83469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0" y="2895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457200" y="228600"/>
            <a:ext cx="8686800" cy="71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4 kinds of 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arbohyd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Lip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ote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ucleic ac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739800"/>
            <a:ext cx="8820000" cy="27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10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1f497d"/>
                </a:solidFill>
                <a:latin typeface="Comic Sans MS"/>
                <a:ea typeface="Comic Sans MS"/>
              </a:rPr>
              <a:t>Carbohydrates</a:t>
            </a:r>
            <a:endParaRPr b="0" lang="en-US" sz="100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06000" y="3504960"/>
            <a:ext cx="7542360" cy="134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Century Gothic"/>
              </a:rPr>
              <a:t>CH</a:t>
            </a:r>
            <a:r>
              <a:rPr b="0" lang="en-US" sz="4400" spc="-1" strike="noStrike" baseline="-25000">
                <a:solidFill>
                  <a:srgbClr val="4f81bd"/>
                </a:solidFill>
                <a:latin typeface="Century Gothic"/>
              </a:rPr>
              <a:t>2</a:t>
            </a:r>
            <a:r>
              <a:rPr b="0" lang="en-US" sz="4400" spc="-1" strike="noStrike">
                <a:solidFill>
                  <a:srgbClr val="4f81bd"/>
                </a:solidFill>
                <a:latin typeface="Century Gothic"/>
              </a:rPr>
              <a:t>O - Hydrated Carbon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0" y="2895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380880" y="380880"/>
            <a:ext cx="8991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57200" y="304920"/>
            <a:ext cx="8381880" cy="9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arbohydrates  =  sacchari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(O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)      hydrated Carb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3 types of simple suga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000" spc="-1" strike="noStrike">
                <a:solidFill>
                  <a:srgbClr val="ff6600"/>
                </a:solidFill>
                <a:latin typeface="Century Gothic"/>
              </a:rPr>
              <a:t>1. monosaccharides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ex: ribose, glucose, fruct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000" spc="-1" strike="noStrike">
                <a:solidFill>
                  <a:srgbClr val="ff6600"/>
                </a:solidFill>
                <a:latin typeface="Century Gothic"/>
              </a:rPr>
              <a:t>2.  disacchari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ex: sucrose, maltose, lact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3000" spc="-1" strike="noStrike">
                <a:solidFill>
                  <a:srgbClr val="ff6600"/>
                </a:solidFill>
                <a:latin typeface="Century Gothic"/>
              </a:rPr>
              <a:t>3.  polysacchar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ex: starch, glycogen, cellul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0" y="2895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380880" y="380880"/>
            <a:ext cx="8991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457200" y="304920"/>
            <a:ext cx="8686800" cy="81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Starch</a:t>
            </a: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n energy source stored by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Glyc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n energy storage molecule in hu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Cellulo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akes plants stro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isn’t digestible to most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roughage (fiber) in d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Century Gothic"/>
              </a:rPr>
              <a:t>Dehydration Synthesis </a:t>
            </a: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80880" y="380880"/>
            <a:ext cx="8991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460440" y="2395440"/>
            <a:ext cx="838188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How are organic molecules ma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dehydration – remov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ynthesis – to ma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Dehydration Synthesis is “to make by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removing water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20:41:16Z</dcterms:created>
  <dc:creator>Jason Cobb</dc:creator>
  <dc:description/>
  <dc:language>en-US</dc:language>
  <cp:lastModifiedBy>Jason Cobb</cp:lastModifiedBy>
  <dcterms:modified xsi:type="dcterms:W3CDTF">2012-10-01T11:38:43Z</dcterms:modified>
  <cp:revision>15</cp:revision>
  <dc:subject/>
  <dc:title>Chapter 2 B Organic Chemistry</dc:title>
</cp:coreProperties>
</file>